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E756-49B3-42FF-9357-B7ADCC7C4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F448-67E5-43A3-91F2-96B639EA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AEEF-AD57-42B5-BF96-963234843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3160-024F-4801-8F15-0DC87F0E8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BE7F9-84B8-46BE-AEDF-AD8AE00FF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C6C3-510D-4821-8E0B-14B7ADB4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31D1-61E3-4024-A56F-43CDA865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9857-2C73-496D-8C75-C25023E5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C78E-0E16-403E-A83C-DD7C5932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1564-470F-49D2-A3DF-7BB52CFE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6F17-D9C0-40EE-A597-1D24AD2D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473E-235A-4394-866B-5040CCFD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0897-3767-42B4-84A8-614047A2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1B8D-B091-410D-9F29-D909B3D0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3AA9-A125-49B7-B474-9DA5D48C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5C87-B177-4692-B069-B49BD3FB8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553E-F36B-4C20-BE47-A6BA1E4CC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0DDEDC-7406-40E5-B31B-1A49CFFFC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BE3D32-5E78-4CD2-8E87-9CDCE94B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1DBC7B-D43D-42AE-AAE1-FB678874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BC08C1-025E-4E0E-AAD3-A77F5648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810BD2-6924-42B2-8CEC-236CA25F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E445-ACAB-441E-BA14-1EA97629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BD17EA-5770-49F6-A1A8-620967F7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258883-C991-4859-BB70-B4CEC1D8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8FC82E-CC37-4074-B59A-7FCC9626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60CA99-27D9-4859-9B2D-0DF4D04E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9E650C-9826-4A12-AC4B-CF6A3A84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527C40-4F02-4D51-A8A2-B87D467C1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98427C-3F5E-4017-B560-9961D5BFA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454AA-90A8-4A11-AD95-A09745328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3481D-92FD-47F2-BFDA-0BD4F3BB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F2533-B5FD-4CB6-9073-90EBFAA9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BA1E-62E7-4C65-9BA9-EEB9178E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BB1A2-7D1E-46CD-8001-7A817043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C16EA-6FB8-4E0D-B956-B870449B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F7D06-EECF-4A2F-91EE-3E53CAF6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8CBA0-11E9-4802-BCDD-67182FC3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99938-208E-4E89-A485-2B4D429B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7F415-A20B-4506-9AAA-C8869AF4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66779-750B-4499-B37F-55FD44F6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EB422-F361-4C7B-9F2D-58C187DB7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7FFFF-68D1-4CE0-A7D6-2DB658067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377131-0C8D-425D-8A84-988928573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DEE4-E308-4017-ACAE-F04D0F71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54FC84-2782-477A-A030-25BB1A62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16EAB2-54BE-44FF-8AC5-FBB08E45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35D229-5BCC-422A-9E47-2401BD4D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9637F2-67EC-4E97-AFE8-D276D822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B08E34-717C-45A3-80D4-E955E042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C53CB0-CDCD-4087-9CD9-F4E0DE36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5630D7-BB4F-4126-B637-A64370C5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6D6C21-2F9C-44BE-AE62-2E359E35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5B4656-7AAA-4C4C-B8C2-68084686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5A9ED8-37D5-43A9-8A82-A1040AE4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13B3-7207-4B98-9B25-28BEFCA3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228A93-0046-45C1-BE8D-AF85B6F3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B62508-201D-453B-B2D1-1A14B7B10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58C57E-72E4-4C3E-889C-EC44D906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573DD2-DDE9-424E-9923-0C031031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4124AC-66B2-473F-A810-5B0F81AC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C5B983-70D7-441B-B7DE-43351CF4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F93A67-6B89-4736-85E1-C500545A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A151F3-804A-4DCD-A059-DFB7A6F0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FB32D4-F83E-4406-B3A4-87070B38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3D77D2-A43D-4247-882B-47BFEA7F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13CE-6048-48DD-B552-1E409596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E33614-F424-499D-82F3-1B4BB187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6C0743-7612-4153-A5B2-1DD76AA6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6670BE-55C4-477E-A684-472CE1E8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B8086E-4FA9-4488-A1F0-009E4C9F9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438FEB-9F46-478F-AFE8-DED8BE52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602A63-3038-41E9-B378-FA52FBDA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42B537-BDEC-40F0-A562-8BAE3031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B44771-6247-4953-907D-CBAEA509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0BFBC3-50C6-4E04-92B2-F2C74D33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8CAE24-5F3B-4953-8B87-3CA16099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7767-C7F7-4DEC-843A-10F69870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8B5954-D1B1-4A2B-9679-43DFCF17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502B88-9A77-407B-84E5-0079EA8A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0352F3-8C89-4077-8998-F08F58D0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AD705D-720B-4103-B7EF-54ED2F562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346625-A75D-414C-A5EF-0D1BD0D79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BBE1-BB03-4D27-8AF7-2BB7C478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A483-D834-4587-894F-0D71FA1F96B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4E2C-A54F-4AE1-ACDD-05E3D965D2D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3F79-A63C-42DD-A552-C21D6745DB8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D9E7-FB73-4D3B-9E0F-AC5D42C0631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3729-1748-43C4-BAC9-DC411DC0F9D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32AB-D841-4023-9654-AAAD0E9F611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568C-9DB3-4D13-AB9F-EB038D15387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D:\SACH Y HOC\UpToDate\contents\mobipreview.htm" TargetMode="External"/><Relationship Id="rId2" Type="http://schemas.openxmlformats.org/officeDocument/2006/relationships/hyperlink" Target="file:///D:\SACH Y HOC\UpToDate\contents\mobipreview.htm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D:\SACH Y HOC\UpToDate\contents\mobipreview.htm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91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PATIENT PREPARATION BEFORE CONTRAST ENEMA IN HIRSCHSPRUNG DIAGNOSI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7543440" y="6273360"/>
            <a:ext cx="16002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alibri"/>
                <a:ea typeface="Calibri"/>
              </a:rPr>
              <a:t>21-01-2014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Calibri"/>
                <a:ea typeface="Calibri"/>
              </a:rPr>
              <a:t>CONTRAST ENEMA - FALSE NEGATIVE RESULT</a:t>
            </a:r>
            <a:br>
              <a:rPr sz="27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5c01"/>
                </a:solidFill>
                <a:latin typeface="Calibri"/>
                <a:ea typeface="Calibri"/>
              </a:rPr>
              <a:t>Transition zone (-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Young infant (&lt;1m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otal aganglion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leanse the colon in 24-48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e catheter has been placed above the transition zo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nterocolit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5c01"/>
                </a:solidFill>
                <a:latin typeface="Calibri"/>
                <a:ea typeface="Calibri"/>
              </a:rPr>
              <a:t>Rectal sigmoid index (-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igital rectal examination in 24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413080" cy="31240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" descr=""/>
          <p:cNvPicPr/>
          <p:nvPr/>
        </p:nvPicPr>
        <p:blipFill>
          <a:blip r:embed="rId2"/>
          <a:stretch/>
        </p:blipFill>
        <p:spPr>
          <a:xfrm>
            <a:off x="457200" y="3733920"/>
            <a:ext cx="8194680" cy="19047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5" descr=""/>
          <p:cNvPicPr/>
          <p:nvPr/>
        </p:nvPicPr>
        <p:blipFill>
          <a:blip r:embed="rId3"/>
          <a:stretch/>
        </p:blipFill>
        <p:spPr>
          <a:xfrm>
            <a:off x="3581280" y="533520"/>
            <a:ext cx="42768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752480" y="7617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Calibri"/>
              </a:rPr>
              <a:t>CONGENITAL AGANGLIONIC MEGACOLON (HIRSCHSPRUNG DISEASE)</a:t>
            </a:r>
            <a:br>
              <a:rPr sz="27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80880" y="26668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ntrast enema is less sensitive than rectal suction biopsy and anorectal manometry for the diagnosis of HD (</a:t>
            </a:r>
            <a:r>
              <a:rPr b="0" lang="en-US" sz="2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1"/>
              </a:rPr>
              <a:t>table 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 [</a:t>
            </a:r>
            <a:r>
              <a:rPr b="0" lang="en-US" sz="2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2"/>
              </a:rPr>
              <a:t>29,38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].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A digital rectal examination within a few days of the contrast enema may dilate the rectum and cause a false negative result”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1" name="Picture 3" descr="UpToDate-20-146x180.jpg"/>
          <p:cNvPicPr/>
          <p:nvPr/>
        </p:nvPicPr>
        <p:blipFill>
          <a:blip r:embed="rId3"/>
          <a:stretch/>
        </p:blipFill>
        <p:spPr>
          <a:xfrm>
            <a:off x="380880" y="647640"/>
            <a:ext cx="1390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981080" y="761760"/>
            <a:ext cx="7010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  <a:ea typeface="Calibri"/>
              </a:rPr>
              <a:t>CONSTIPATION IN CHILDREN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Calibri"/>
                <a:ea typeface="Calibri"/>
              </a:rPr>
              <a:t>ETIOLOGY AND DIAGNOSIS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80880" y="2514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fants with significant constipation from the neonatal period, especially those with delayed passage of meconium — Perform a </a:t>
            </a:r>
            <a:r>
              <a:rPr b="0" lang="en-US" sz="2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1"/>
              </a:rPr>
              <a:t>barium</a:t>
            </a:r>
            <a:r>
              <a:rPr b="0" lang="en-US" sz="2800" spc="-1" strike="noStrike" u="sng">
                <a:solidFill>
                  <a:srgbClr val="002060"/>
                </a:solidFill>
                <a:uFillTx/>
                <a:latin typeface="Calibri"/>
                <a:ea typeface="Calibri"/>
              </a:rPr>
              <a:t> enem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("unprepped", ie, without measures to remove stool from the rectum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o investigate the possibility of Hirschsprung disease ”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Picture 3" descr="UpToDate-20-146x180.jpg"/>
          <p:cNvPicPr/>
          <p:nvPr/>
        </p:nvPicPr>
        <p:blipFill>
          <a:blip r:embed="rId2"/>
          <a:stretch/>
        </p:blipFill>
        <p:spPr>
          <a:xfrm>
            <a:off x="380880" y="571680"/>
            <a:ext cx="1390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ONTRAST ENEMA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colon preparation of any typ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dietary restri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digital rectal examination within 24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enterocolit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ONCLUSI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atient preparation process before contrast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or patient with enterocolitis or recent rectal biopsy: treat well before contrast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or patient without enterocolit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signs of clinical fecal stagnation: do unprepared contrast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ith signs of clinical fecal stagnation: wash out or use laxatives to cleanse bowel, then stop at least 24h before contrast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REFERENCE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iro Yoshida, Jr, MD. Hirschsprung Disease Imaging. Medscap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Kristin Fiorino, Chris A. Liacouras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ngenital Aganglionic Megacolon (Hirschsprung Disease)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. Nels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nne-Marie Dixon. The abdomen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aediatic Radiography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avid E Wesson, MD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ngenital aganglionic megacolon (Hirschsprung disease). UpToD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74678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75f6d"/>
                </a:solidFill>
                <a:latin typeface="Calibri"/>
                <a:ea typeface="Calibri"/>
              </a:rPr>
              <a:t>THANK YOU !!!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ONTEN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linical assessmen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iagnostic tes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OVERVIEW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irschspung disease (HD): congenital aganglionic megacolo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tiology: failure of migration of ganglion cells along the gastrointestinal tract during the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hrough 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weeks of embryonic development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enetic abnormality: del 10 (q11.21,q21.2), trisomy 18,21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1/5000 children, male/female: 4/1 – 1/1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mplication: enterocolitis, sepsis, intestinal perforatio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LINICAL ASSESSMEN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Rounded Rectangle 3"/>
          <p:cNvSpPr/>
          <p:nvPr/>
        </p:nvSpPr>
        <p:spPr>
          <a:xfrm>
            <a:off x="2971800" y="1066680"/>
            <a:ext cx="2971800" cy="685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uspected Hirschspru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Straight Connector 5"/>
          <p:cNvSpPr/>
          <p:nvPr/>
        </p:nvSpPr>
        <p:spPr>
          <a:xfrm>
            <a:off x="2209680" y="2057400"/>
            <a:ext cx="4267440" cy="1440"/>
          </a:xfrm>
          <a:prstGeom prst="line">
            <a:avLst/>
          </a:prstGeom>
          <a:ln w="2556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0" name="Elbow Connector 20"/>
          <p:cNvCxnSpPr>
            <a:stCxn id="358" idx="2"/>
          </p:cNvCxnSpPr>
          <p:nvPr/>
        </p:nvCxnSpPr>
        <p:spPr>
          <a:xfrm flipH="1" rot="16200000">
            <a:off x="4323240" y="1885680"/>
            <a:ext cx="305640" cy="38520"/>
          </a:xfrm>
          <a:prstGeom prst="bentConnector3">
            <a:avLst>
              <a:gd name="adj1" fmla="val 96108"/>
            </a:avLst>
          </a:prstGeom>
          <a:ln w="25560">
            <a:solidFill>
              <a:srgbClr val="ff6903"/>
            </a:solidFill>
            <a:miter/>
          </a:ln>
        </p:spPr>
      </p:cxnSp>
      <p:cxnSp>
        <p:nvCxnSpPr>
          <p:cNvPr id="361" name="Straight Arrow Connector 24"/>
          <p:cNvCxnSpPr/>
          <p:nvPr/>
        </p:nvCxnSpPr>
        <p:spPr>
          <a:xfrm flipH="1">
            <a:off x="2208960" y="2057040"/>
            <a:ext cx="2520" cy="30564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62" name="Straight Arrow Connector 25"/>
          <p:cNvCxnSpPr/>
          <p:nvPr/>
        </p:nvCxnSpPr>
        <p:spPr>
          <a:xfrm flipH="1">
            <a:off x="6476760" y="2057040"/>
            <a:ext cx="2160" cy="30564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63" name="Rounded Rectangle 26"/>
          <p:cNvSpPr/>
          <p:nvPr/>
        </p:nvSpPr>
        <p:spPr>
          <a:xfrm>
            <a:off x="990720" y="2362320"/>
            <a:ext cx="2743200" cy="53316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igh suspic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Rounded Rectangle 27"/>
          <p:cNvSpPr/>
          <p:nvPr/>
        </p:nvSpPr>
        <p:spPr>
          <a:xfrm>
            <a:off x="5105520" y="2362320"/>
            <a:ext cx="2743200" cy="53316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Low suspic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5" name="Straight Arrow Connector 28"/>
          <p:cNvCxnSpPr/>
          <p:nvPr/>
        </p:nvCxnSpPr>
        <p:spPr>
          <a:xfrm flipH="1">
            <a:off x="2208960" y="2895480"/>
            <a:ext cx="2520" cy="45792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66" name="Rounded Rectangle 30"/>
          <p:cNvSpPr/>
          <p:nvPr/>
        </p:nvSpPr>
        <p:spPr>
          <a:xfrm>
            <a:off x="304920" y="3352680"/>
            <a:ext cx="4419360" cy="11430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nterocolitis 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Symp: fever, vomiting, diarrhea, abdominal distension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Stool exam: RBC, WBC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Plain xray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7" name="Straight Arrow Connector 32"/>
          <p:cNvCxnSpPr/>
          <p:nvPr/>
        </p:nvCxnSpPr>
        <p:spPr>
          <a:xfrm flipH="1">
            <a:off x="1294560" y="4495680"/>
            <a:ext cx="839160" cy="53424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68" name="Straight Arrow Connector 34"/>
          <p:cNvCxnSpPr/>
          <p:nvPr/>
        </p:nvCxnSpPr>
        <p:spPr>
          <a:xfrm>
            <a:off x="2133720" y="4495680"/>
            <a:ext cx="838800" cy="53424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69" name="TextBox 36"/>
          <p:cNvSpPr/>
          <p:nvPr/>
        </p:nvSpPr>
        <p:spPr>
          <a:xfrm>
            <a:off x="1219320" y="4495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TextBox 37"/>
          <p:cNvSpPr/>
          <p:nvPr/>
        </p:nvSpPr>
        <p:spPr>
          <a:xfrm>
            <a:off x="2590920" y="4495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Rounded Rectangle 38"/>
          <p:cNvSpPr/>
          <p:nvPr/>
        </p:nvSpPr>
        <p:spPr>
          <a:xfrm>
            <a:off x="304920" y="502920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reat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Rounded Rectangle 39"/>
          <p:cNvSpPr/>
          <p:nvPr/>
        </p:nvSpPr>
        <p:spPr>
          <a:xfrm>
            <a:off x="2286000" y="5029200"/>
            <a:ext cx="2362320" cy="4572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ntrast 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73" name="Straight Arrow Connector 41"/>
          <p:cNvCxnSpPr>
            <a:stCxn id="371" idx="3"/>
            <a:endCxn id="372" idx="1"/>
          </p:cNvCxnSpPr>
          <p:nvPr/>
        </p:nvCxnSpPr>
        <p:spPr>
          <a:xfrm>
            <a:off x="1905120" y="5257800"/>
            <a:ext cx="381600" cy="216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74" name="Straight Arrow Connector 42"/>
          <p:cNvCxnSpPr>
            <a:stCxn id="364" idx="2"/>
            <a:endCxn id="375" idx="0"/>
          </p:cNvCxnSpPr>
          <p:nvPr/>
        </p:nvCxnSpPr>
        <p:spPr>
          <a:xfrm flipH="1">
            <a:off x="6474600" y="2897280"/>
            <a:ext cx="3960" cy="91512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75" name="Rounded Rectangle 43"/>
          <p:cNvSpPr/>
          <p:nvPr/>
        </p:nvSpPr>
        <p:spPr>
          <a:xfrm>
            <a:off x="5105520" y="3809880"/>
            <a:ext cx="2743200" cy="6098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lain abdominal radiograp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76" name="Shape 49"/>
          <p:cNvCxnSpPr>
            <a:stCxn id="375" idx="2"/>
          </p:cNvCxnSpPr>
          <p:nvPr/>
        </p:nvCxnSpPr>
        <p:spPr>
          <a:xfrm rot="5400000">
            <a:off x="5028480" y="3810240"/>
            <a:ext cx="838800" cy="2057760"/>
          </a:xfrm>
          <a:prstGeom prst="bentConnector2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77" name="Straight Arrow Connector 50"/>
          <p:cNvCxnSpPr/>
          <p:nvPr/>
        </p:nvCxnSpPr>
        <p:spPr>
          <a:xfrm flipH="1">
            <a:off x="3123360" y="5410080"/>
            <a:ext cx="2520" cy="45792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78" name="Rounded Rectangle 51"/>
          <p:cNvSpPr/>
          <p:nvPr/>
        </p:nvSpPr>
        <p:spPr>
          <a:xfrm>
            <a:off x="2514600" y="5867280"/>
            <a:ext cx="1447920" cy="685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nsult surge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TextBox 52"/>
          <p:cNvSpPr/>
          <p:nvPr/>
        </p:nvSpPr>
        <p:spPr>
          <a:xfrm>
            <a:off x="4648320" y="4648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o stool i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ower rectum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LINICAL ASSESSMEN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5c01"/>
                </a:solidFill>
                <a:latin typeface="Calibri"/>
                <a:ea typeface="Calibri"/>
              </a:rPr>
              <a:t>High suspic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nstipation, an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elayed passage of meconium (&gt;= 48h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bdominal distens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own’s syndrom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ight anal canal and rectal vault, “squirt sign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5c01"/>
                </a:solidFill>
                <a:latin typeface="Calibri"/>
                <a:ea typeface="Calibri"/>
              </a:rPr>
              <a:t>Low suspic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olonged constipation and none of these featu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DIAGNOSTIC TES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4" name="Picture 1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7238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DIAGNOSTIC TES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ntrast enem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initial diagnostic procedu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Biops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confirm the diagn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ONTRAST ENEMA - SIG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Transition zon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bnormal, irregular contractions of aganglionic segment –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rectal sigmoid inde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ickening and nodularity of colonic mucosa proximal to transition zo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elayed evacuation of bariu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ixed barium-stool pattern on delayed radiograph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istended bowel loops on plain radiographs that almost fill after contrast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Question mark–shaped colon in total colonic aganglion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3386160" cy="4343400"/>
          </a:xfrm>
          <a:prstGeom prst="rect">
            <a:avLst/>
          </a:prstGeom>
          <a:ln w="0">
            <a:noFill/>
          </a:ln>
        </p:spPr>
      </p:pic>
      <p:sp>
        <p:nvSpPr>
          <p:cNvPr id="391" name="TextBox 4"/>
          <p:cNvSpPr/>
          <p:nvPr/>
        </p:nvSpPr>
        <p:spPr>
          <a:xfrm>
            <a:off x="990720" y="54100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ransition zon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2" name="Picture 45" descr="Hirschsprung disease. Lateral view from a barium e"/>
          <p:cNvPicPr/>
          <p:nvPr/>
        </p:nvPicPr>
        <p:blipFill>
          <a:blip r:embed="rId2"/>
          <a:stretch/>
        </p:blipFill>
        <p:spPr>
          <a:xfrm>
            <a:off x="4724280" y="1219320"/>
            <a:ext cx="3988080" cy="3209760"/>
          </a:xfrm>
          <a:prstGeom prst="rect">
            <a:avLst/>
          </a:prstGeom>
          <a:ln w="0">
            <a:noFill/>
          </a:ln>
        </p:spPr>
      </p:pic>
      <p:sp>
        <p:nvSpPr>
          <p:cNvPr id="393" name="TextBox 6"/>
          <p:cNvSpPr/>
          <p:nvPr/>
        </p:nvSpPr>
        <p:spPr>
          <a:xfrm>
            <a:off x="4800600" y="4800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Rectal sigmoid index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3T16:02:29Z</dcterms:created>
  <dc:creator>Win7</dc:creator>
  <dc:description/>
  <dc:language>en-US</dc:language>
  <cp:lastModifiedBy>AVENIS</cp:lastModifiedBy>
  <dcterms:modified xsi:type="dcterms:W3CDTF">2014-01-21T00:24:22Z</dcterms:modified>
  <cp:revision>68</cp:revision>
  <dc:subject/>
  <dc:title>ASSESSMENT FOR HIRSCHSPRUNG DISEASE AT</dc:title>
</cp:coreProperties>
</file>